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png" ContentType="image/png"/>
  <Override PartName="/ppt/media/projctor.wav" ContentType="audio/x-wav"/>
  <Override PartName="/ppt/media/image1.jpeg" ContentType="image/jpeg"/>
  <Override PartName="/ppt/media/image22.jpeg" ContentType="image/jpeg"/>
  <Override PartName="/ppt/media/image13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7B6-629A-4072-9F3D-CC46579A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85B-4480-4784-8A6D-8E2C278D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449-0DBC-4C2B-9100-7DA4FE85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39C-10F1-4DFD-8264-A305D322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859-86B1-4347-9D48-84A9C0E2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395-48F8-4DD3-B3E3-B4711180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E0F-CF99-4727-BA7B-4708DE95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D15-E8F7-48DE-9C08-F751B4BD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566-580D-4968-8842-137E5D2E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DDA-3782-4167-97A8-ED3B0361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7E1-1B55-4402-955B-25414C54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529-6B45-4B9E-B0FC-E54AE8C0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83C0-B32D-425B-B1C4-515AD5114174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25EC-8AD0-4DF8-8B85-8A8377846D2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图片 4608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矩形 4"/>
          <p:cNvSpPr/>
          <p:nvPr/>
        </p:nvSpPr>
        <p:spPr>
          <a:xfrm>
            <a:off x="498600" y="765000"/>
            <a:ext cx="825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ng eng ing ong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5364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36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1257480" y="1406520"/>
            <a:ext cx="6843600" cy="5139720"/>
            <a:chOff x="1257480" y="1406520"/>
            <a:chExt cx="6843600" cy="5139720"/>
          </a:xfrm>
        </p:grpSpPr>
        <p:pic>
          <p:nvPicPr>
            <p:cNvPr id="101" name="Picture 3" descr="A1_339"/>
            <p:cNvPicPr/>
            <p:nvPr/>
          </p:nvPicPr>
          <p:blipFill>
            <a:blip r:embed="rId1"/>
            <a:stretch/>
          </p:blipFill>
          <p:spPr>
            <a:xfrm>
              <a:off x="2461320" y="1406520"/>
              <a:ext cx="367488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257480" y="5385960"/>
              <a:ext cx="6843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hēi    xiónɡ</a:t>
              </a:r>
              <a:r>
                <a:rPr b="0" lang="zh-CN" sz="7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92360" y="1054080"/>
            <a:ext cx="5748120" cy="3948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1763640" y="47260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fēng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  zhē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1976400" y="2114640"/>
            <a:ext cx="51912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539640" y="134136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ff0000"/>
                </a:solidFill>
                <a:latin typeface="Calibri"/>
                <a:ea typeface="黑体"/>
              </a:rPr>
              <a:t>      </a:t>
            </a:r>
            <a:r>
              <a:rPr b="1" lang="zh-CN" sz="10000" spc="-1" strike="noStrike">
                <a:solidFill>
                  <a:srgbClr val="ff0000"/>
                </a:solidFill>
                <a:latin typeface="Calibri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Calibri"/>
                <a:ea typeface="黑体"/>
              </a:rPr>
              <a:t>ɑ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o e   i u ü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38480" y="1325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韵母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854360" y="161604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ff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i 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ei     u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u    i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ie     üe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黑体"/>
              </a:rPr>
              <a:t>    e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844720" y="112536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990720" y="1371600"/>
            <a:ext cx="8001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   en   in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un    ün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前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28679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后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8420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g   eng 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ing    ong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2413080" y="1341360"/>
            <a:ext cx="5543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ǎi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ó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彩  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ǔ  guò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í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ái yún pi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过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晴 白 云 飘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án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jià  qǐ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ǎ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ó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iá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蓝 天 架起 彩  虹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ì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é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uá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ǜ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ī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lán z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赤 橙  黄  绿青 蓝 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ǔ shǔ  yán sè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ǒu    qī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à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 数 颜 色 有  七 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A1_322"/>
          <p:cNvPicPr/>
          <p:nvPr/>
        </p:nvPicPr>
        <p:blipFill>
          <a:blip r:embed="rId1"/>
          <a:stretch/>
        </p:blipFill>
        <p:spPr>
          <a:xfrm>
            <a:off x="-36360" y="1660680"/>
            <a:ext cx="2479680" cy="213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鹰"/>
          <p:cNvPicPr/>
          <p:nvPr/>
        </p:nvPicPr>
        <p:blipFill>
          <a:blip r:embed="rId2"/>
          <a:stretch/>
        </p:blipFill>
        <p:spPr>
          <a:xfrm>
            <a:off x="4103640" y="1488960"/>
            <a:ext cx="3529080" cy="261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6_2009070812012281wwT"/>
          <p:cNvPicPr/>
          <p:nvPr/>
        </p:nvPicPr>
        <p:blipFill>
          <a:blip r:embed="rId3"/>
          <a:stretch/>
        </p:blipFill>
        <p:spPr>
          <a:xfrm>
            <a:off x="6808680" y="1660680"/>
            <a:ext cx="2244960" cy="2028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34000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57040" y="5157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lǎo y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隶书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443640" y="5157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ó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 mā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7200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ì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fē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9" descr="84a1991283e90a25b9127bff"/>
          <p:cNvPicPr/>
          <p:nvPr/>
        </p:nvPicPr>
        <p:blipFill>
          <a:blip r:embed="rId4"/>
          <a:stretch/>
        </p:blipFill>
        <p:spPr>
          <a:xfrm>
            <a:off x="2760840" y="1763640"/>
            <a:ext cx="2304720" cy="18734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971280" y="3357360"/>
            <a:ext cx="4537440" cy="1871640"/>
            <a:chOff x="971280" y="3357360"/>
            <a:chExt cx="4537440" cy="1871640"/>
          </a:xfrm>
        </p:grpSpPr>
        <p:sp>
          <p:nvSpPr>
            <p:cNvPr id="150" name="Line 10"/>
            <p:cNvSpPr/>
            <p:nvPr/>
          </p:nvSpPr>
          <p:spPr>
            <a:xfrm flipV="1">
              <a:off x="971640" y="3357360"/>
              <a:ext cx="4537080" cy="18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10800000">
              <a:off x="971280" y="3357360"/>
              <a:ext cx="453708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403280" y="3284640"/>
            <a:ext cx="1944720" cy="1944720"/>
            <a:chOff x="1403280" y="3284640"/>
            <a:chExt cx="1944720" cy="1944720"/>
          </a:xfrm>
        </p:grpSpPr>
        <p:sp>
          <p:nvSpPr>
            <p:cNvPr id="153" name="Line 11"/>
            <p:cNvSpPr/>
            <p:nvPr/>
          </p:nvSpPr>
          <p:spPr>
            <a:xfrm>
              <a:off x="1403280" y="3284640"/>
              <a:ext cx="194472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403280" y="3284640"/>
              <a:ext cx="194472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40360" y="3357720"/>
            <a:ext cx="3671640" cy="1942920"/>
            <a:chOff x="4140360" y="3357720"/>
            <a:chExt cx="3671640" cy="1942920"/>
          </a:xfrm>
        </p:grpSpPr>
        <p:sp>
          <p:nvSpPr>
            <p:cNvPr id="156" name="Line 12"/>
            <p:cNvSpPr/>
            <p:nvPr/>
          </p:nvSpPr>
          <p:spPr>
            <a:xfrm>
              <a:off x="4140360" y="3357720"/>
              <a:ext cx="3671640" cy="194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140360" y="3357720"/>
              <a:ext cx="3671640" cy="19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508360" y="3284640"/>
            <a:ext cx="2376720" cy="1944720"/>
            <a:chOff x="5508360" y="3284640"/>
            <a:chExt cx="2376720" cy="1944720"/>
          </a:xfrm>
        </p:grpSpPr>
        <p:sp>
          <p:nvSpPr>
            <p:cNvPr id="159" name="Line 13"/>
            <p:cNvSpPr/>
            <p:nvPr/>
          </p:nvSpPr>
          <p:spPr>
            <a:xfrm flipH="1">
              <a:off x="5508360" y="3284640"/>
              <a:ext cx="237636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508720" y="3284640"/>
              <a:ext cx="2376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矩形 1" descr=""/>
          <p:cNvPicPr/>
          <p:nvPr/>
        </p:nvPicPr>
        <p:blipFill>
          <a:blip r:embed="rId5"/>
          <a:stretch/>
        </p:blipFill>
        <p:spPr>
          <a:xfrm>
            <a:off x="2863800" y="925560"/>
            <a:ext cx="3722760" cy="923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257040" y="800280"/>
            <a:ext cx="2000520" cy="5158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257040" y="1375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F:\七彩课堂插图板式封面\排版用图标、页眉页脚\标题jpg\课外书屋.jpg"/>
          <p:cNvPicPr/>
          <p:nvPr/>
        </p:nvPicPr>
        <p:blipFill>
          <a:blip r:embed="rId1"/>
          <a:stretch/>
        </p:blipFill>
        <p:spPr>
          <a:xfrm>
            <a:off x="227160" y="1197000"/>
            <a:ext cx="2259000" cy="157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2700360" y="963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274680" y="3933720"/>
            <a:ext cx="24699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F:\七彩课堂插图板式封面\排版用图标、页眉页脚\标题jpg\我会找.jpg"/>
          <p:cNvPicPr/>
          <p:nvPr/>
        </p:nvPicPr>
        <p:blipFill>
          <a:blip r:embed="rId4"/>
          <a:stretch/>
        </p:blipFill>
        <p:spPr>
          <a:xfrm>
            <a:off x="2867040" y="3933720"/>
            <a:ext cx="2468520" cy="1727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F:\七彩课堂插图板式封面\排版用图标、页眉页脚\标题jpg\我们爱语文.jpg"/>
          <p:cNvPicPr/>
          <p:nvPr/>
        </p:nvPicPr>
        <p:blipFill>
          <a:blip r:embed="rId5"/>
          <a:stretch/>
        </p:blipFill>
        <p:spPr>
          <a:xfrm>
            <a:off x="5651640" y="1012680"/>
            <a:ext cx="2784240" cy="194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F:\七彩课堂插图板式封面\排版用图标、页眉页脚\标题jpg\温故知新.jpg"/>
          <p:cNvPicPr/>
          <p:nvPr/>
        </p:nvPicPr>
        <p:blipFill>
          <a:blip r:embed="rId6"/>
          <a:stretch/>
        </p:blipFill>
        <p:spPr>
          <a:xfrm>
            <a:off x="5722920" y="4149720"/>
            <a:ext cx="2058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7913520" cy="3851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484360" y="398628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鼻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19280" y="25351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i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847960" y="1660680"/>
            <a:ext cx="40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后鼻韵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95280" y="2400480"/>
            <a:ext cx="3456000" cy="3406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718160" y="4246560"/>
            <a:ext cx="28796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0000"/>
                </a:solidFill>
                <a:latin typeface="Comic Sans MS"/>
              </a:rPr>
              <a:t>ang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859280" y="32259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后鼻韵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645080" y="119700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  <a:ea typeface="黑体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爆炸形 1 3"/>
          <p:cNvSpPr/>
          <p:nvPr/>
        </p:nvSpPr>
        <p:spPr>
          <a:xfrm>
            <a:off x="2268360" y="1058760"/>
            <a:ext cx="3959280" cy="785880"/>
          </a:xfrm>
          <a:prstGeom prst="irregularSeal1">
            <a:avLst/>
          </a:prstGeom>
          <a:gradFill rotWithShape="0">
            <a:gsLst>
              <a:gs pos="0">
                <a:srgbClr val="d5a6a5"/>
              </a:gs>
              <a:gs pos="100000">
                <a:srgbClr val="c98685"/>
              </a:gs>
            </a:gsLst>
            <a:lin ang="5400000"/>
          </a:gradFill>
          <a:ln w="6480">
            <a:solidFill>
              <a:srgbClr val="ac4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云形标注 2"/>
          <p:cNvSpPr/>
          <p:nvPr/>
        </p:nvSpPr>
        <p:spPr>
          <a:xfrm>
            <a:off x="3635280" y="2276640"/>
            <a:ext cx="3384720" cy="2232000"/>
          </a:xfrm>
          <a:prstGeom prst="cloudCallout">
            <a:avLst>
              <a:gd name="adj1" fmla="val -81495"/>
              <a:gd name="adj2" fmla="val 73319"/>
            </a:avLst>
          </a:prstGeom>
          <a:gradFill rotWithShape="0">
            <a:gsLst>
              <a:gs pos="0">
                <a:srgbClr val="ddacab"/>
              </a:gs>
              <a:gs pos="100000">
                <a:srgbClr val="d48c8b"/>
              </a:gs>
            </a:gsLst>
            <a:lin ang="5400000"/>
          </a:gradFill>
          <a:ln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220640" y="2781360"/>
            <a:ext cx="155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in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867040" y="10587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0" y="4221000"/>
            <a:ext cx="2867040" cy="2095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484360" y="458136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nɡ w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1"/>
          <a:stretch/>
        </p:blipFill>
        <p:spPr>
          <a:xfrm>
            <a:off x="1914480" y="2114640"/>
            <a:ext cx="5315040" cy="2628720"/>
          </a:xfrm>
          <a:prstGeom prst="rect">
            <a:avLst/>
          </a:prstGeom>
          <a:ln w="0">
            <a:noFill/>
          </a:ln>
        </p:spPr>
      </p:pic>
      <p:sp>
        <p:nvSpPr>
          <p:cNvPr id="77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0" y="4208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uā shē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21(2)"/>
          <p:cNvPicPr/>
          <p:nvPr/>
        </p:nvPicPr>
        <p:blipFill>
          <a:blip r:embed="rId1"/>
          <a:stretch/>
        </p:blipFill>
        <p:spPr>
          <a:xfrm>
            <a:off x="2749680" y="955800"/>
            <a:ext cx="5286240" cy="3396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465444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rè  shuǐ pí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4216320" y="1033560"/>
            <a:ext cx="277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879560" y="4581360"/>
            <a:ext cx="53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ónɡ qí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413080" y="1197000"/>
            <a:ext cx="4680000" cy="3486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324000" y="1054080"/>
            <a:ext cx="9144000" cy="4894560"/>
            <a:chOff x="324000" y="1054080"/>
            <a:chExt cx="9144000" cy="4894560"/>
          </a:xfrm>
        </p:grpSpPr>
        <p:pic>
          <p:nvPicPr>
            <p:cNvPr id="94" name="Picture 3" descr="枪"/>
            <p:cNvPicPr/>
            <p:nvPr/>
          </p:nvPicPr>
          <p:blipFill>
            <a:blip r:embed="rId1"/>
            <a:stretch/>
          </p:blipFill>
          <p:spPr>
            <a:xfrm>
              <a:off x="1390680" y="1054080"/>
              <a:ext cx="6096240" cy="39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4"/>
            <p:cNvSpPr/>
            <p:nvPr/>
          </p:nvSpPr>
          <p:spPr>
            <a:xfrm>
              <a:off x="324000" y="4483080"/>
              <a:ext cx="914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</a:rPr>
                <a:t>shǒu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9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4303800" y="423216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qiā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52:00Z</dcterms:created>
  <dc:creator/>
  <dc:description/>
  <dc:language>en-US</dc:language>
  <cp:lastModifiedBy>啊啊</cp:lastModifiedBy>
  <dcterms:modified xsi:type="dcterms:W3CDTF">2017-06-24T15:04:21Z</dcterms:modified>
  <cp:revision>6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